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63A-5BCC-4B05-A657-0C1E9882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39C3-87C3-4A6C-B626-D6A3C80D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8EE-710A-4DB0-BFF0-792E419B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52A-D226-4BFE-BB7F-85EF50BF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71C-531B-4941-8E20-CF60A3AB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F23-1018-466A-A70E-DCA6F28F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8DF-328B-42F6-8A9D-B1FEDE5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9CA-00CF-4E39-9823-93529576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9D5-23B2-4D48-8A2F-73C95DD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12F-4931-44F3-A00F-6F6581D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A96-3036-4CB7-A728-5D1B256B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A3F-120C-47F8-822F-88F83A4D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4091-F2E9-4786-BC7C-AB41400C28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 když na pohled to tak nevypadá, má mozek jasnou a zřetelnou struktu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ek lze popsat více způsoby – my zvolíme přístup evoluční, tedy podle toho, jak se mozek vyvíj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le evoluce máme vlastně 3 mozky – ve vývoji se vždy přidal další, když bylo potřeba se přizpůsobit novému prostře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kový kmen + mezimozek + koncový moz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zkový k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ást mozku, kterou sdílíme s živočišnými druhy vývojově od ještěrů, nachází se na spodině mozku, nasedá na míc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ídí základní životní funkce – dýchání, srdeční stahy, důležité refle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to místo křížení nervových drah – levá polovina mozku řídí pravou polovinu těla a naop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ranění v této oblasti jsou smrtelná („srazit si vaz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zeč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roslulý svou funkcí koordinace motorických pohybů (laně, Baryšnikov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ověk s poškozeným mozečkem bude mít trhavé pohyby, připomínající rob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eček je citlivý na toxické látky – působí na něj alkohol - vliv na jemnou i hrubou motor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vé výzkumy však ukazují na další významné funkce mozečku v oblasti paměti, učení, ale i prožívání (např. výzkumy prožívání orgas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zimozek - diencephal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uktury zodpovědné za započetí a usměrňování činnosti, které se týkají základních potřeb (potřeba spánku, jídla, tekutin, sex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ídlí zde také základní emoční i kognitivní prožitky – např.bolest, strach, paměť a u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částí je hypotalamus (lidé s nádorem hypotelamu mohou být buď obézní nebo naopak hubení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cový mozek - telencephal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chází se nad mezimozkem (jako poleva na dortu), rozdělen na dvě části – hemisféry – ty jsou odděleny a komunikují spolu skrze tzv.corpus callo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zková kůra – sídlo akademické činnosti mozku, sídlo vědění, myšlení, ře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volučně nejmladší část mozku – vyvinuta silně u savců, zvláště u primá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ůležité je zvrásnění kůry – čím větší, tím je mozek na vyšší úrovni (slon má sice větší mozek, než člověk, ale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ělení koncového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ělíme jej na několik párových lalo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íky výzkumům už vesměs víme, co jednotlivé laloky zajišťují, co se v nich odehrá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elní (frontální) laloky – zraková ob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menní (parietální) laloky – uvědomování si a prožívání těla, vnímání, orientace v prost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lní (okcipitální) – vyšší kognitivní funkce – myšlení, logické uvažování, exekutivní fce, ře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ánkový (temporální) – zpracování zvukových podnětů, některých emo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ak je možné, že to ví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si dávno se usuzovalo podle zkoumání mozku mrtvého člověka, který měl nějaké problé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lší fáze zkoumání mozku – nutné operace mozku – popis prožívání pacienta v průběhu ope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nes lze mozek zkoumat ohleduplně – např. P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zitronová emisní tomografie – využívá skutečnosti, že mozek při své činnosti spotřebovává hodně cukru – do krve se spolu s glukózou vpraví neškodné množství radioaktivní sloučeniny – na monitoru PC pak můžeme sledovat, která čas mozku pracuje, když zkoumané osobě zadáváme nějaké ú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akž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pokusná osoba řeší úkoly, které musí řešit pomoc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raku,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svítí se která část mozkové kůry …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je v úkolu kladen důraz n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řeč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…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jde o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luchové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kol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vapivé je, že když plníme úkoly paměťové, rozsvítí se velká část mozku, a to nejen kůr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íly v mozkových hemisférá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sice párové, ale ne symetr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á hemisféra zpracovává více podněty prostorové, rytmické, celos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vá hemisféra zpracovává více detaily, logické usuzování, melodii, uspořádání v čase, schopnost mluvit a rozumě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áci mají dominantní levou hemisféru (také 50% lev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mbický systém (emoční moz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kupina útvarů na přechodu mezi hemisférami a mozkovým kmen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atří k vývojově nejstarší části koncového mozku, dříve rhinencephalon – čichový mozek – souvislost čichu s  emocem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Díky oboustrannému spojení s kůrou a hypotalamem řídí vrozené i získané formy chování ( instinkty, motivace,sex.chování) a projevy emocí (libost, nelibost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Rozpozná ohrožení a podle toho posílá podněty dál nebo zpět do mozkového kmene - přepína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jímání mozku v předvědeckém obdob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říve se myslitelé o mozek příliš nezajím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staří Egypťané ho při mumifikaci vytahovali nosem a připadal jim zbyte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Aristotela měl mozek za úkol ochlazovat organiz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prve mnohem později byla objevena souvislost mezi mozkem a myšlením, mozkem a chováním, mozkem a osobností člověk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moci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ekční onemocnění – záněty mozk.blan, moz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generativní onemocnění – Alzheimerova a Parkinsonova choroba (zánik mozk.buněk, porucha distribuce dopamin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generativní onemocnění nervů – ROS – porucha koordinace pohybů a řeč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zková mrtvice – poškození mozk.tkáně krvácením nebo nedokrvením – ztráta pohyblov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igréna – porucha cévního zásobení mozku – zp=ůsobuje intenzivní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pilepsie – porucha vzniku vzruchu v mozk.kůře – vede ke specifickým záchvatům – křeče, bezvědom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jí muži a ženy stejné mozk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výzkumů mají muži a ženy statisticky sice stejnou inteligenci, ale zapojují při řešení problémů jiné části mo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ži zapojují více specializované části mozku, ženy více částí najedn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rénink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noho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st, vzdělávat se, nebránit se novým zkušenostem, dovednostem, informací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ětné debaty, pohyb, zdravé jíd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bízí se především seniorům (trénink kognitivních funkc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vála sukodu a křížov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rozumět psychice = porozumět mozku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me tělesné bytosti, tzn. že naše myšlení, cítění, chování, jednání jsou výsledkem nerv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škození mozku znamená změnu v chování, chováme se jinak, vnímáme ji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škození ve větším rozsahu znamená, že přestáváme být sami seb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přestane mozek fungovat, je to nejjistější známka smrti – mozková smr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e možná transplantace mozk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aha psychiky je odrazem struktury a funkce mozk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zek nelze transplantovat, protože byste to už nebyli v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transplantaci srdce se probudí táž osoba, po transplantaci mozku by se probudil někdo jin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ělo s transplantovaným mozkem by pak bylo domovem jiné osobě (sci-fi literatura, filmy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000000"/>
                </a:solidFill>
                <a:latin typeface="Calibri"/>
              </a:rPr>
              <a:t>Stanovení mozkové smrt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je zásadní diagnózou pro darování orgánů mrtvého pacienta k transplantaci orgán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pacient s mozkovou smrtí bez spontánní dýchací aktivity a dalších stanovených projevů se považuje za mrtvéh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K rozhodnutí o mozkové smrti je povolána komise lékařů. Ti rozhodnou o zda se jedná o tento stav organismu a následně o případném vyoperování orgánů a odpojení pacienta od přístrojů uchovávajících vitální funkce.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 se děje ve vaší hlavě…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zek provádí stále obrovské množství výpočtů, mozek v tom vyniká, dokáže počítat naprosto přesně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 z baseballu – je fyzicky nemožné odpálit míček, když je odpalovaný takovou rychlostí (nelze to vypočítat), přesto to prvoligový pálkař dokáže 1x ze 3-4 poku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 přístrojů by to mohl dokázat velmi výkonný počítač, v živočišné říši moz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Fyzická charakteristika moz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ro představu - jedenapůllitrová krabice chalup.sýra – zhruba stejná velikost, objem a husto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áží necelých 1,5 kg (1360 – 1450 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objem je kolem jednoho a pů litr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ředstavuje jenom asi 2% z naší celk.těl.hmotnosti, ale využívá kolem 20% z celkové spotřeby kyslík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otřebovává také lví podíl z celkového příjmu cuk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e srovnání s PC je mozk.činnost pomalejší – měří se v řádech milisekund, PC nanosekun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funkční jednotky moz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urony a syna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uron – základní stavební jednotka mozku – má tělo a dva výběžky (dostzředivé – je jich více, vedou vzruch dovnitř) a odstředivý – je jeden a předává vzruch dá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zi neurony jsou synapse – slouží k předávání vzruch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rozdíl od buněk v jiných částech těla se neurony neobnovu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Jak mozek fungu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še plány, sny, myšlení, umělecká činnost – to vše je vlastně elektrochemická aktiv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ení v tomto jazeyce je vlastně úpravou synapsí, které činí neurony více či méně náchylnými sepnout v okamžiku, kdy se dostaví signály podle určitého vz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ť už se učíme chodit, řešit rovnice nebo číst ve francouzštině – v mozku se děje totéž – pozměňují se synap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20:26:17Z</dcterms:created>
  <dc:creator>Etel</dc:creator>
  <dc:description/>
  <dc:language>en-US</dc:language>
  <cp:lastModifiedBy>Uzivatel</cp:lastModifiedBy>
  <dcterms:modified xsi:type="dcterms:W3CDTF">2013-01-02T10:52:09Z</dcterms:modified>
  <cp:revision>16</cp:revision>
  <dc:subject/>
  <dc:title>Mozek</dc:title>
</cp:coreProperties>
</file>