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11A3-1FDA-4F47-AA7E-B56A358F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3FEE-A984-4ED1-845C-9FC535EF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1A55-D245-4A7D-BD14-A0624CC8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52F9-E9B2-4BF9-8CBF-0CE68AB3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C2A3-986B-4D54-9B23-44F563B0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3E23-E172-4B5A-A6A3-CD6C777D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DA23-AB5C-4E59-9562-C17D1BF0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3E47-707A-474B-94E2-A771C251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028A-1050-45A2-AE65-0D52CA39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DB07-DD3B-43BE-BCA2-2DE140DD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DA9-E957-4626-A747-C681CCC6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8A30-9218-4911-8E42-0CF1546B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E368-E2A3-4E97-9FD5-0382AA4400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Lenka.Sramkova@upol.cz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Lenka\Desktop\Brain.jpg"/>
          <p:cNvPicPr/>
          <p:nvPr/>
        </p:nvPicPr>
        <p:blipFill>
          <a:blip r:embed="rId1"/>
          <a:stretch/>
        </p:blipFill>
        <p:spPr>
          <a:xfrm>
            <a:off x="0" y="2786040"/>
            <a:ext cx="4071960" cy="4071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57200" y="713880"/>
            <a:ext cx="742968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sychologie pro učitele</a:t>
            </a:r>
            <a:br>
              <a:rPr sz="4000"/>
            </a:br>
            <a:br>
              <a:rPr sz="4000"/>
            </a:br>
            <a:r>
              <a:rPr b="0" lang="cs-CZ" sz="5000" spc="-1" strike="noStrike">
                <a:solidFill>
                  <a:srgbClr val="ff0000"/>
                </a:solidFill>
                <a:latin typeface="Calibri"/>
              </a:rPr>
              <a:t>Paměť jako podmínka učení</a:t>
            </a:r>
            <a:br>
              <a:rPr sz="4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142880" y="5000760"/>
            <a:ext cx="471492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12. 11.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Mgr. Lenka Šrám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Lenka\Desktop\the-power-of-the-memory-molecule_1.jpg"/>
          <p:cNvPicPr/>
          <p:nvPr/>
        </p:nvPicPr>
        <p:blipFill>
          <a:blip r:embed="rId1"/>
          <a:stretch/>
        </p:blipFill>
        <p:spPr>
          <a:xfrm>
            <a:off x="5079960" y="3857760"/>
            <a:ext cx="4064040" cy="4064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Krátkodobá pamě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Calibri"/>
              </a:rPr>
              <a:t>Funkce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: podržení informací, které aktuálně potřebujeme k psychickým aktivitá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Calibri"/>
              </a:rPr>
              <a:t>Např. telefonní číslo, zadání slovní úloh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Calibri"/>
              </a:rPr>
              <a:t>Délka zapamatování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15 – 30 sek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Calibri"/>
              </a:rPr>
              <a:t>Kapacita krátkodobé paměti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George Mill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7 +/- 2 CHUN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Chunks mohou být i složité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Role smyslupl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pamatujte si následující seznam slabi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ED – RON – IK – DON – EM – ÁR – Á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ff0000"/>
                </a:solidFill>
                <a:latin typeface="Calibri"/>
              </a:rPr>
              <a:t>VEDRO     NIKDO     NEMÁ     RÁD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pamatujte si následující slov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chod, jaro, podzim, dorzální, západ, mediální, zima, laterální, sever, ventrální, léto, ji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světové strany, roční období, anatomické směr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Mnemotechnické pomůc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eskupují do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chu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nadňují převod do dlouhodobé pamě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an </a:t>
            </a:r>
            <a:r>
              <a:rPr b="1" lang="cs-CZ" sz="32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dl </a:t>
            </a:r>
            <a:r>
              <a:rPr b="1" lang="cs-CZ" sz="32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énii </a:t>
            </a:r>
            <a:r>
              <a:rPr b="1" lang="cs-CZ" sz="32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sní </a:t>
            </a:r>
            <a:r>
              <a:rPr b="1" lang="cs-CZ" sz="32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stou </a:t>
            </a:r>
            <a:r>
              <a:rPr b="1" lang="cs-CZ" sz="32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cs-CZ" sz="3200" spc="-1" strike="noStrike">
                <a:solidFill>
                  <a:srgbClr val="ff0000"/>
                </a:solidFill>
                <a:latin typeface="Calibri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ě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Šetři se Os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PRS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ritéria kvalitní odpovědi v internetovém poradenství – podporující, respektující, seriózní, angažovan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Efekt novosti a primár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abule – Mrak – Kniha – Strom – Sukně – Kočka – Světlo – Lavička – Kří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Efekt novosti (recency effect)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: lépe se pamatují slova na konci sezna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Efekt primárnosti (primacy effect)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: lépe se pamatují slova na začátku sezna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čáteční slova se uložila do dlouhodobé paměti, slova z konce jsou dosud v krátkodob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Efekt délky slov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lépe se pamatují slova krátk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81360" y="2476440"/>
            <a:ext cx="4562640" cy="43815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racovní pamě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obsah 2"/>
          <p:cNvSpPr/>
          <p:nvPr/>
        </p:nvSpPr>
        <p:spPr>
          <a:xfrm>
            <a:off x="285840" y="1500120"/>
            <a:ext cx="514332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časné uchování nejen informací ze smyslů, ale také data z dlouhodobé pamě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vádění mentálních operac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Např. matematické slovní úlo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Dlouhodobá pamě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lativně pasivní komponenta paměti sloužící k uskladnění obrovského množství informa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á omezenou kapacit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kládání memorováním (např. násobilk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ezděčné × Záměrné uklád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chování na dlouhou dobu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ěkdy na celý život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le nejspíše ne nezměně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Users\Lenka\Desktop\memoryy.jpg"/>
          <p:cNvPicPr/>
          <p:nvPr/>
        </p:nvPicPr>
        <p:blipFill>
          <a:blip r:embed="rId1"/>
          <a:stretch/>
        </p:blipFill>
        <p:spPr>
          <a:xfrm>
            <a:off x="6286680" y="4010040"/>
            <a:ext cx="28573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Deklarativní – knowing what – explicit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chovává data v té podobě, ve které byla vštíp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zpomínky na životní události a faktické znal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Např. Kdo byl prvním prezidentem ČR?, Jak se anglicky řekne byt?, Kde jste oslavili 16. narozenin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C:\Users\Lenka\Desktop\memory.jpg"/>
          <p:cNvPicPr/>
          <p:nvPr/>
        </p:nvPicPr>
        <p:blipFill>
          <a:blip r:embed="rId1"/>
          <a:stretch/>
        </p:blipFill>
        <p:spPr>
          <a:xfrm>
            <a:off x="1643040" y="3733920"/>
            <a:ext cx="5715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rocedurální – knowing how – implicit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sahuje pravidla nebo sled postupů, pomocí nichž lze vytvořit nové smysluplné cel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učené, zautomatizované doved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Např. pravidla vytváření vět, plavání, řízení auta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C:\Users\Lenka\Desktop\memory.jpg"/>
          <p:cNvPicPr/>
          <p:nvPr/>
        </p:nvPicPr>
        <p:blipFill>
          <a:blip r:embed="rId1"/>
          <a:stretch/>
        </p:blipFill>
        <p:spPr>
          <a:xfrm>
            <a:off x="1643040" y="3733920"/>
            <a:ext cx="5715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rim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liv předběžných podnětů na vním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prahové podněty – reklama × neprokázá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vědomý sémantický priming (slov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fekt pouhého vystavení (Zajonc, 192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 škol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cs-CZ" sz="3200" spc="-1" strike="noStrike">
                <a:solidFill>
                  <a:srgbClr val="00b050"/>
                </a:solidFill>
                <a:latin typeface="Calibri"/>
              </a:rPr>
              <a:t>klíčová slo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C:\Users\Lenka\Desktop\0900-priming-your-brain.jpg"/>
          <p:cNvPicPr/>
          <p:nvPr/>
        </p:nvPicPr>
        <p:blipFill>
          <a:blip r:embed="rId1"/>
          <a:stretch/>
        </p:blipFill>
        <p:spPr>
          <a:xfrm>
            <a:off x="4067280" y="4002120"/>
            <a:ext cx="50767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Vzpomínání, reprodukce, znovuvybav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Konfirmační zkreslení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tendence přednostně vyhledávat informace, které potvrzují naše dosavadní míně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Očitá svědectv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Sugestivní otáz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c se neptat, nechat mluv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C:\Users\Lenka\Desktop\komix-bublina-zrkadlo.jpg"/>
          <p:cNvPicPr/>
          <p:nvPr/>
        </p:nvPicPr>
        <p:blipFill>
          <a:blip r:embed="rId1"/>
          <a:stretch/>
        </p:blipFill>
        <p:spPr>
          <a:xfrm>
            <a:off x="5500800" y="257184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f7f7f"/>
                </a:solidFill>
                <a:latin typeface="Calibri"/>
              </a:rPr>
              <a:t>KLÍČOVÁ SLO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aměť a učení, dělení paměti – senzorický registr, ultrakrátká (echonická a ikonická paměť), krátkodobá a dlouhodobá – deklarativní – knowing what (explicitní) a procedurální – knowing how (implicitní) paměť, kódování, ukládání, vybavování</a:t>
            </a:r>
            <a:r>
              <a:rPr b="0" lang="cs-CZ" sz="3000" spc="-1" strike="noStrike">
                <a:solidFill>
                  <a:srgbClr val="00b050"/>
                </a:solidFill>
                <a:latin typeface="Calibri"/>
              </a:rPr>
              <a:t> –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zpomínání, reprodukce, znovuvybavení, reverzibilní a ireverzibilní zapomínání, permastore, infantilní amnézie, retrográdní amnézie, anterográdní amnézie, priming, pracovní pamě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Lenka\Desktop\6a00d8341bf7f753ef014e8701e793970d-800wi.jpg"/>
          <p:cNvPicPr/>
          <p:nvPr/>
        </p:nvPicPr>
        <p:blipFill>
          <a:blip r:embed="rId1"/>
          <a:stretch/>
        </p:blipFill>
        <p:spPr>
          <a:xfrm>
            <a:off x="5734080" y="4143240"/>
            <a:ext cx="3409920" cy="3191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Reverzibilní a ireverzibilní zapomín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pomínání není jednoznačně negativní jev – chrání mozek před zahlcením a přetížení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Teorie rozpadu pamětních stop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jsou-li změny vyvolané učením reaktivovány, spoje se rozpadaj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Teorie účelného zapomínán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dstranění nepřesného, nepotřebného, chybnéh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Teorie ztráty vodítek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arušení sítí v paměti, spoje usnadňují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bavování – fenomén mám to na jazyk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Teorie interferen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iz další sl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Konsolid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držení poznatků v mysli po určitou dobu tak, aby mohla být uložena do dlouhodobé pamě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gativně působí tzv. </a:t>
            </a: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interferen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jedna informace následuje druhou a utlumuje 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Lenka\Desktop\1300278061nebankovni-hypoteka2.jpg"/>
          <p:cNvPicPr/>
          <p:nvPr/>
        </p:nvPicPr>
        <p:blipFill>
          <a:blip r:embed="rId1"/>
          <a:stretch/>
        </p:blipFill>
        <p:spPr>
          <a:xfrm>
            <a:off x="0" y="3857760"/>
            <a:ext cx="30002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Strategie na podporu konsolid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čkat, zopakovat, zeptat 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Členit látk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dat látce důležitost, probudit zájem o n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bát na první fázi (vštípení – závisí na pozornosti!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aktické využití (smysluplnos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rozumě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ojení s něčím známým (síťování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apojení více smysl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isku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novupoznání (snazší než vybavení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odít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nemotechnické pomůck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C:\Users\Lenka\Desktop\i_love_amnesia_sticker-p217701170629570963envb3_400.jpg"/>
          <p:cNvPicPr/>
          <p:nvPr/>
        </p:nvPicPr>
        <p:blipFill>
          <a:blip r:embed="rId1"/>
          <a:stretch/>
        </p:blipFill>
        <p:spPr>
          <a:xfrm>
            <a:off x="5715000" y="34290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Retrográdní amnézie, </a:t>
            </a:r>
            <a:br>
              <a:rPr sz="4400"/>
            </a:b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Anterográdní amnéz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mnézie (ztráta pamě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 úrazu hlavy, operaci mozku, onemoc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RETROGRÁD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neschopnost vybavovat si zážitky z doby před vznikem amnéz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ANTEROGRÁD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neschopno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štípit si do paměti zážitky p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niku poruc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Calibri"/>
              </a:rPr>
              <a:t>Další: např. posthypnotická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ermast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ermastore = permanent storage = permanentní („nezničitelná“) pamě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ůstává nezasažena i u nejvážnějších forem amnéz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Např. chápání vět u anterográdní amnéz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Paměť tři prvky. První dvě složky jsou nepostradatelné – zmizí-li, ať už je příčina jakákoliv, je paměť zničená. Avšak zmizí-li poslední složka, pro sebe samu přestane paměť existovat, ale sama existovat nepřestane.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Users\Lenka\Desktop\Infant-And-Human-Growth-Hormone.jpg"/>
          <p:cNvPicPr/>
          <p:nvPr/>
        </p:nvPicPr>
        <p:blipFill>
          <a:blip r:embed="rId1"/>
          <a:stretch/>
        </p:blipFill>
        <p:spPr>
          <a:xfrm>
            <a:off x="6448320" y="0"/>
            <a:ext cx="2695680" cy="40384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0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Infantilní amnéz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schopnost vybavovat si vzpomínky na události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vních 3 let živo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načné individuální rozdí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Calibri"/>
              </a:rPr>
              <a:t>Např. Hospitaliazace, sourozenec, smrt rodič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Neurologické vysvětlení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: nezralost hipokamp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Kognitivní vysvětlení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: rozdíl v kódování vzpomínek dětmi a dospělými (především verbalizování × preverbální kódování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dostatečná schopnost orientace v </a:t>
            </a: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č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enka.Sramkova@upol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C:\Users\Lenka\Desktop\Nákupní-předsudky-1.-část-250x250.jpg"/>
          <p:cNvPicPr/>
          <p:nvPr/>
        </p:nvPicPr>
        <p:blipFill>
          <a:blip r:embed="rId2"/>
          <a:stretch/>
        </p:blipFill>
        <p:spPr>
          <a:xfrm>
            <a:off x="2832120" y="2695680"/>
            <a:ext cx="394812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amě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atří mezi poznávací proces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chopnost zaznamenávat životní zkušenosti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zce souvisí s otázkami učení –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je základním předpokladem schopnosti učit 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perimentální metody zkoum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Lenka\Desktop\Pictogram_memory.png"/>
          <p:cNvPicPr/>
          <p:nvPr/>
        </p:nvPicPr>
        <p:blipFill>
          <a:blip r:embed="rId1"/>
          <a:stretch/>
        </p:blipFill>
        <p:spPr>
          <a:xfrm>
            <a:off x="5865840" y="4294080"/>
            <a:ext cx="2563920" cy="2563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Lenka\Desktop\Pictogram_memory.png"/>
          <p:cNvPicPr/>
          <p:nvPr/>
        </p:nvPicPr>
        <p:blipFill>
          <a:blip r:embed="rId2"/>
          <a:stretch/>
        </p:blipFill>
        <p:spPr>
          <a:xfrm>
            <a:off x="3286080" y="4294080"/>
            <a:ext cx="2563920" cy="2563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Lenka\Desktop\Pictogram_memory.png"/>
          <p:cNvPicPr/>
          <p:nvPr/>
        </p:nvPicPr>
        <p:blipFill>
          <a:blip r:embed="rId3"/>
          <a:stretch/>
        </p:blipFill>
        <p:spPr>
          <a:xfrm>
            <a:off x="714240" y="4294080"/>
            <a:ext cx="25639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Zkoumání paměti, Hermann Ebbinghaus (1850 – 1909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koumal sám sebe, učil se několik let bezvýznamné slabiky (cca 2 0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Např. MIB-DAX-B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tvořilo řadu 5-7 slabik, stačilo mu na naučení jediné opakování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APACITA KRÁTKODOBÉ PAMĚTI JE 5 – 7 PRV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pomínání je zpočátku velmi rychlé, ale postupně se zpomalu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Ebbinghausova křivka zpomín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Zástupný symbol pro obsah 3" descr="ebbinghausova-krivka-zapominani.gif"/>
          <p:cNvPicPr/>
          <p:nvPr/>
        </p:nvPicPr>
        <p:blipFill>
          <a:blip r:embed="rId1"/>
          <a:stretch/>
        </p:blipFill>
        <p:spPr>
          <a:xfrm>
            <a:off x="2000160" y="1119240"/>
            <a:ext cx="53578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Fáze pamě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14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VŠTÍPENÍ (KÓDOVÁ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Transformace senzorických vstupů do podoby mentálních reprezentací, které lze uložit do pamě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UCHOVÁNÍ (RETE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roces podržení nebo uchování zakódované informace v paměti po různě dlouhou dobu. Během tohoto procesu je informace zpracovávána, tříděna, řazena do souvislostí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VYBAVENÍ (REPRODUK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Vyhledání informace v dlouhodobé paměti a jejich vyvolání zpět do vědomí, a to jak bezděčně, tak záměrně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b050"/>
                </a:solidFill>
                <a:latin typeface="Calibri"/>
              </a:rPr>
              <a:t>Free recall (písemka) × Rekognice (test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Dělení paměti – modely pamě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ichard Atkinson a Richard Shiffr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ři hlavní pamětní systé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1. Senzorická paměť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prchavá, senzorický zásobník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2. Krátkodobá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aktivní, vědomá, omezená kapacita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Calibri"/>
              </a:rPr>
              <a:t>3. Dlouhodobá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hypoteticky neomezená kapacita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Senzorický registr, ultrakrát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a krátkou dobu uchovává informace ze smysl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Tento čas je nezbytný pro stanovení toho, zda jsou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důležité nebo 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Calibri"/>
              </a:rPr>
              <a:t>Např. zpoždění vlak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Bezvýznamné podněty jsou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zapomenuty, relativně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důležité přesunuty d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krátkodobé paměti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Lenka\Desktop\memory-post-its-400x400.jpg"/>
          <p:cNvPicPr/>
          <p:nvPr/>
        </p:nvPicPr>
        <p:blipFill>
          <a:blip r:embed="rId1"/>
          <a:stretch/>
        </p:blipFill>
        <p:spPr>
          <a:xfrm>
            <a:off x="5334120" y="3048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„</a:t>
            </a: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Zásobníky“ ultrakrátké pamě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povídají jednotlivým smyslovým modalitá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IKONICKÁ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uchovává vizuální informace (&lt; 1 se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ECHONICKÁ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drží sluchové podněty (cca 3 se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etrvačnost zrakového vjemu“ = „vizuální persistenc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např. kresba svíčko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George Sperling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12 písmen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50 milisekund, ihned po promítnutí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cit, že si pamatují vše, ale než 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ísmena zapíšou, vjem zmiz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>
            <a:lum contrast="6000"/>
          </a:blip>
          <a:srcRect l="9436" t="13457" r="13206" b="14225"/>
          <a:stretch/>
        </p:blipFill>
        <p:spPr>
          <a:xfrm>
            <a:off x="6500880" y="4071960"/>
            <a:ext cx="2450880" cy="2571840"/>
          </a:xfrm>
          <a:prstGeom prst="rect">
            <a:avLst/>
          </a:prstGeom>
          <a:ln w="7632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2:37:41Z</dcterms:created>
  <dc:creator>Lenka Sramkova</dc:creator>
  <dc:description/>
  <dc:language>en-US</dc:language>
  <cp:lastModifiedBy>Uzivatel</cp:lastModifiedBy>
  <dcterms:modified xsi:type="dcterms:W3CDTF">2013-01-02T10:54:35Z</dcterms:modified>
  <cp:revision>106</cp:revision>
  <dc:subject/>
  <dc:title>Snímek 1</dc:title>
</cp:coreProperties>
</file>