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B77-9405-46B1-9A45-01BEFD1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ED2-76D0-4CB2-BC49-73A012A5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ACA-1D7B-44DB-B59C-03E7F3B8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313-A548-40D6-8FB8-F10209A9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3F2-CB72-497A-967F-377D273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2A0-AE92-4F30-BD2F-33FCAE24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345-1E24-4C89-BEB8-EE3969E3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CC8-0FE9-412B-9CCC-65E69EE9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670-469A-4B8E-A81A-880279B7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028C-5303-4207-AA37-A50DA69F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C9A-81D3-4CEC-AB2C-52947F9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F60-C7D7-4C36-BA12-B4C7EB6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8F80-D95F-4BE7-BD09-011D3190DC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mailto:Lenka.Sramkova@upol.cz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enka\Desktop\Brain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71388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sychologie pro učitele</a:t>
            </a:r>
            <a:br>
              <a:rPr sz="4000"/>
            </a:br>
            <a:br>
              <a:rPr sz="4000"/>
            </a:br>
            <a:r>
              <a:rPr b="0" lang="cs-CZ" sz="5500" spc="-1" strike="noStrike">
                <a:solidFill>
                  <a:srgbClr val="ff0000"/>
                </a:solidFill>
                <a:latin typeface="Calibri"/>
              </a:rPr>
              <a:t>Komunikace ve škole </a:t>
            </a:r>
            <a:br>
              <a:rPr sz="5000"/>
            </a:br>
            <a:r>
              <a:rPr b="0" lang="cs-CZ" sz="3300" spc="-1" strike="noStrike">
                <a:solidFill>
                  <a:srgbClr val="ff0000"/>
                </a:solidFill>
                <a:latin typeface="Calibri"/>
              </a:rPr>
              <a:t>a její význam pro učení</a:t>
            </a:r>
            <a:br>
              <a:rPr sz="40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2880" y="5000760"/>
            <a:ext cx="471492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26. 11.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PhDr. Lenka Šrám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ste asertivní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otevřeně vyjadřovat své pocit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druhému naslouchat, aniž byste mu skákali do řeč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druhého požádat o laskav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upřímně pochváli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samozřejmě vést rozhovor s neznámým člověke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Řeknete jasně ne, když si to myslít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kritizovat konstruktivně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jadřujete svůj hněv bez vybuchování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Jste schopni někomu říci, že ho máte rád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Umíte se podělit o svou rad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okážete přijímat kritiku bez odvety nebo sebevýčite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 aser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jasná formulace cílů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otevřená, nezáludná a přímá komunikac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schopnost ukázat, že chápete pohled na věc, který zastává druhá stran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schopnost neustupovat v podstatných věcech a jednat pružně tam, kde je to vhodné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ní asertivní prá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ám posuzovat své vlastní chování, myšlenky a emoce a být za ně a jejich důsledky zodpověd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nabízet žádné výmluvy či omluvy ospravedlňující tvé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soudit zda a nakolik jsi odpovědný za řešení problémů ostatních li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měnit svůj náz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ělat chyby a být za ně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odpověd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Lenka\Desktop\IL-asertivita.jpg"/>
          <p:cNvPicPr/>
          <p:nvPr/>
        </p:nvPicPr>
        <p:blipFill>
          <a:blip r:embed="rId1"/>
          <a:stretch/>
        </p:blipFill>
        <p:spPr>
          <a:xfrm>
            <a:off x="5943600" y="4000680"/>
            <a:ext cx="3200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kladní asertivní prá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6. Říci „Já nevím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. Být nezávislý na dobré vůli ostatní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8. Dělat nelogická rozhodnut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. Říci: „Já ti nerozumím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0. Říci: „Je mi to jedno.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1. Sám rozhodnout, zda bude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dnat asertivně nebo 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Lenka\Desktop\IL-asertivita.jpg"/>
          <p:cNvPicPr/>
          <p:nvPr/>
        </p:nvPicPr>
        <p:blipFill>
          <a:blip r:embed="rId1"/>
          <a:stretch/>
        </p:blipFill>
        <p:spPr>
          <a:xfrm>
            <a:off x="5943600" y="4000680"/>
            <a:ext cx="3200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sertivita ve šk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Rozvíje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komunikačních a sociálních dovednost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silov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sebeúc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Zlepše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interpersonálních vztah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čení dlouhodobě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efektivním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strategiím jedn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zitivn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model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Tvárnos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dětské psychiky (vliv škol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Učitel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: sděluje sv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city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um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naslouchat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jde mu o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spolupráci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sebe i žáky pokládá za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hodnotné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lidské byt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Lenka\Desktop\Empathy-Mouse340.jpg"/>
          <p:cNvPicPr/>
          <p:nvPr/>
        </p:nvPicPr>
        <p:blipFill>
          <a:blip r:embed="rId1"/>
          <a:stretch/>
        </p:blipFill>
        <p:spPr>
          <a:xfrm>
            <a:off x="1500120" y="1884240"/>
            <a:ext cx="6429600" cy="4973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Lenka\Desktop\Empathy Mirror.gif"/>
          <p:cNvPicPr/>
          <p:nvPr/>
        </p:nvPicPr>
        <p:blipFill>
          <a:blip r:embed="rId2"/>
          <a:stretch/>
        </p:blipFill>
        <p:spPr>
          <a:xfrm>
            <a:off x="1500120" y="285840"/>
            <a:ext cx="64296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mp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42848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chopnost vcítění se, porozumění.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znamená vždy souhla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mpatie (pomáhá uvědomovat) namísto racionalizace (popření pocit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Např. Student vyhozený od zkoušky: „Už tam nikdy nepůjdu!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Empatie: „Jsi zklamaný a máš vztek… To chápu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Racionalizace: „Jeden neúspěch tě přece neodradí.“ / „Měl ses víc učit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Users\Lenka\Desktop\empathy.jpg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mpatická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ejte druhému najevo, že ho berete vážně a nezlehčujete jeho po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možněte mu, aby sám přišel na to, co má dělat – nedávejte nevyžádané ra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Zbytečně se nevyptávej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obviňuj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Rozlište mezi projevy lít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„To je mi líto.“) a em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„To musí být těžké.“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Lenka\Desktop\509157.jpg"/>
          <p:cNvPicPr/>
          <p:nvPr/>
        </p:nvPicPr>
        <p:blipFill>
          <a:blip r:embed="rId1"/>
          <a:stretch/>
        </p:blipFill>
        <p:spPr>
          <a:xfrm>
            <a:off x="5334120" y="3591000"/>
            <a:ext cx="3809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Users\Lenka\Desktop\348ba7caa4d2f0f3821b8eb5dcda897a.jpg"/>
          <p:cNvPicPr/>
          <p:nvPr/>
        </p:nvPicPr>
        <p:blipFill>
          <a:blip r:embed="rId1"/>
          <a:stretch/>
        </p:blipFill>
        <p:spPr>
          <a:xfrm>
            <a:off x="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osociální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kutky a činy (pomoc, rozdělení se, spolupráce, finanční i materiální dary apod.) vykonané ve prospěch druhých, aniž by za to byla očekávána protislužba nebo odmě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stkonvenční morál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jedn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le internalizovaných nore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a morálních zásad (Kohlber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uje užší pomáhající ch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úprava společných záhonků × pomoc s taškami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:\Users\Lenka\Desktop\p16moahr49vsrv3n19251c6r1hov0_53460.jpg"/>
          <p:cNvPicPr/>
          <p:nvPr/>
        </p:nvPicPr>
        <p:blipFill>
          <a:blip r:embed="rId1"/>
          <a:stretch/>
        </p:blipFill>
        <p:spPr>
          <a:xfrm>
            <a:off x="-714240" y="0"/>
            <a:ext cx="3743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ltruism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 lat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alter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druhý, 3. pád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altru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druh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sobecký způsob myšlení a jedn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zištné jednání ve prospěch druhých lidí jako první princ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tikladem altruismu je ego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Evoluční pohled na altriusm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KLÍČOVÁ 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asertivita</a:t>
            </a:r>
            <a:r>
              <a:rPr b="0" lang="cs-CZ" sz="3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a zásady asertivního chování, empatie, empatická reakce, altruismus, prosociální chování, chyby (zlozvyky) v komunikaci, efektivní komunikace, pozitivní komunikace,</a:t>
            </a:r>
            <a:r>
              <a:rPr b="0" lang="cs-CZ" sz="3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3500" spc="-1" strike="noStrike">
                <a:solidFill>
                  <a:srgbClr val="000000"/>
                </a:solidFill>
                <a:latin typeface="Calibri"/>
              </a:rPr>
              <a:t>negativní komunikace s dětmi, „já“ výroky a „ty“ výroky, sebereflexe učitele, Johariho okno sebereflexe, zkreslování informací, neverbální komunikac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0" spc="-1" strike="noStrike">
                <a:solidFill>
                  <a:srgbClr val="000000"/>
                </a:solidFill>
                <a:latin typeface="Calibri"/>
              </a:rPr>
              <a:t>Efektivní, zdravá, funkční, kvalitní komunikace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C:\Users\Lenka\Desktop\people-talking1.jpg"/>
          <p:cNvPicPr/>
          <p:nvPr/>
        </p:nvPicPr>
        <p:blipFill>
          <a:blip r:embed="rId1"/>
          <a:stretch/>
        </p:blipFill>
        <p:spPr>
          <a:xfrm>
            <a:off x="200016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Bezprostřední reakce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časté odkládání reakcí, mlčení a nereagování na situaci je nečitel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řizpůsobov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pod stejnými slovy různí lidí chápou různé věci, nejde o názorovou nepev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Aktivní naslouchán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zájem o druhého, empat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Reciprocita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všichni mají právo vyjádřit se stejnou měrou, potenciálně vyvážený dialo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Humor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pomáhá fixovat obsahy, vyžaduje ale takt, odhad partnera, nejde o zesměšň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Konzistence reakcí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e „kam vítr, tam plášť“, nekličkovat (pomluvy, intrikování, chameleonství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zitivní formulace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egativní verbalizace vzbuzují negativní emoce,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řeznačk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Obecné akceptování názoru útočníka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– např. „Rozumím vám, svým způsobem máte pravdu, je možno to vidět i tímto způsobem…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Doptávání s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zpětná vaz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Ideálem není skrytá manipulace (výhra × prohra), ale asertivita (výhra × výhr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ivní (zdravá)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é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kritice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! – vyvolává obranu, raději postupně než střádat a poté říct, zaměřit na situaci, nikoliv na osob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ým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žadavkům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vyvolávají panickou reakci typu „to nezvládnu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e nadbytečnému vyjadřování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zklamání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jen sdělit, nerozpitvávat, negeneralizovat (např. „Já vám tam věřil a vy jste mě TAK ZKLAMAL!“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Věc, problé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osoba, 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hýbat se hodnocení a obviňo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– co špatného udělala, jaká j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Ty jsi ten hrnek rozbila, jsi nemehlo.“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„Hrnek je rozbitý.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Tady a te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nikdy, zase, pořád, vždycky…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o se děje tady a teď, co se dá vyřeš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Spoluúčast druhé stran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řešit vše sami a hn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ibrat k řešení zainteresovanou stran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oučasně to děti učí způsobům řešení problémů a konfliktů a vede je to ke zodpověd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Co s tím uděláš?“, „Co navrhuješ jako řešení?“, „Co s tím?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Co děl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nedělej, nesmíš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Jestliže říkáme, co nemá dělat, nemusí být jasné, co dělat m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„Neběhej!“ </a:t>
            </a:r>
            <a:r>
              <a:rPr b="0" lang="cs-CZ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„Tady je třeba jít pomalu.“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Users\Lenka\Desktop\communication.jpg"/>
          <p:cNvPicPr/>
          <p:nvPr/>
        </p:nvPicPr>
        <p:blipFill>
          <a:blip r:embed="rId1"/>
          <a:stretch/>
        </p:blipFill>
        <p:spPr>
          <a:xfrm>
            <a:off x="5419800" y="0"/>
            <a:ext cx="3724200" cy="290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ozitiv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Oznamovací vě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ne: rozkazovací způsob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kazy a zákazy odklánějí pozor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 podstaty věci k řešení vztahu s osobou, která je dáv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kazy a pokyny lze nahradit zejména popisem a informace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571680" y="4500720"/>
            <a:ext cx="838080" cy="180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2571840" y="5429160"/>
            <a:ext cx="407880" cy="88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1571760" y="4923000"/>
            <a:ext cx="642960" cy="138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5"/>
          <a:stretch/>
        </p:blipFill>
        <p:spPr>
          <a:xfrm>
            <a:off x="6143760" y="4500720"/>
            <a:ext cx="838080" cy="1809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7429680" y="4500720"/>
            <a:ext cx="838080" cy="1809720"/>
          </a:xfrm>
          <a:prstGeom prst="rect">
            <a:avLst/>
          </a:prstGeom>
          <a:ln w="0">
            <a:noFill/>
          </a:ln>
        </p:spPr>
      </p:pic>
      <p:cxnSp>
        <p:nvCxnSpPr>
          <p:cNvPr id="109" name="Přímá spojovací šipka 11"/>
          <p:cNvCxnSpPr/>
          <p:nvPr/>
        </p:nvCxnSpPr>
        <p:spPr>
          <a:xfrm>
            <a:off x="1285560" y="4857840"/>
            <a:ext cx="42948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Přímá spojovací šipka 12"/>
          <p:cNvCxnSpPr/>
          <p:nvPr/>
        </p:nvCxnSpPr>
        <p:spPr>
          <a:xfrm>
            <a:off x="2142720" y="5214960"/>
            <a:ext cx="429480" cy="3578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Přímá spojovací šipka 16"/>
          <p:cNvCxnSpPr/>
          <p:nvPr/>
        </p:nvCxnSpPr>
        <p:spPr>
          <a:xfrm>
            <a:off x="6929280" y="4785840"/>
            <a:ext cx="572400" cy="2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headEnd len="med" type="arrow" w="med"/>
            <a:tailEnd len="med" type="triangle" w="med"/>
          </a:ln>
        </p:spPr>
      </p:cxnSp>
      <p:sp>
        <p:nvSpPr>
          <p:cNvPr id="112" name="Šipka doprava 17"/>
          <p:cNvSpPr/>
          <p:nvPr/>
        </p:nvSpPr>
        <p:spPr>
          <a:xfrm>
            <a:off x="3214800" y="5072040"/>
            <a:ext cx="271440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Users\Lenka\Desktop\PhD\Vyuka\logopedi\komunikace\27097cs_CZI_communication.jpg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á“ výroky a „ty“ výro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Já výroky“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= výroky v první osob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jádření vlastních pocitů, potře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pis situ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opis důsledků pro mojí osob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čekávání, přání do budouc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Ty výroky“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= výroky ve 2. osob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viň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General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yjádření moci a nadřaze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Chyby (zlozvyky) v komunika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platňují se hlavně, když jsme napjatí, podrážd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jadřování pocitů oklik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asnost a nekonkrét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háně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lepkování – nešika, hlupák, leno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ipisování úmyslu – hned očekáváme špatn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jekce vlastních myšlenek a tendenc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rušování, skákání do řeč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hybějící odezva – zpětná vazba, bez známky naslouch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verbální odmítání – chybí zrakový kontakt at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C:\Users\Lenka\Desktop\bullhorn.gif"/>
          <p:cNvPicPr/>
          <p:nvPr/>
        </p:nvPicPr>
        <p:blipFill>
          <a:blip r:embed="rId1"/>
          <a:stretch/>
        </p:blipFill>
        <p:spPr>
          <a:xfrm>
            <a:off x="7500960" y="2500200"/>
            <a:ext cx="16430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3293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Učitel a jeho komunikační chyby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Negativní komunikace s dět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čít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bviňo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čednické výr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rovnává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arkas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roctv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y-výroky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dřazen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General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:\Users\Lenka\Desktop\teacher-yelling.jpg"/>
          <p:cNvPicPr/>
          <p:nvPr/>
        </p:nvPicPr>
        <p:blipFill>
          <a:blip r:embed="rId1"/>
          <a:stretch/>
        </p:blipFill>
        <p:spPr>
          <a:xfrm>
            <a:off x="4572000" y="2071800"/>
            <a:ext cx="3898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communicatio“ = „vespolné účastnění“, tedy nejen proudění informací a sdělování, ale též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sdíl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Užší pojetí: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Kdo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co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jak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komu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proč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, s jakým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záměrem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a s jakým </a:t>
            </a:r>
            <a:r>
              <a:rPr b="0" lang="cs-CZ" sz="2900" spc="-1" strike="noStrike">
                <a:solidFill>
                  <a:srgbClr val="ff0000"/>
                </a:solidFill>
                <a:latin typeface="Calibri"/>
              </a:rPr>
              <a:t>účinkem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něco řík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Lenka\Desktop\PhD\Vyuka\logopedi\komunikace\27097cs_CZI_communication.jpg"/>
          <p:cNvPicPr/>
          <p:nvPr/>
        </p:nvPicPr>
        <p:blipFill>
          <a:blip r:embed="rId1"/>
          <a:stretch/>
        </p:blipFill>
        <p:spPr>
          <a:xfrm>
            <a:off x="2928960" y="36432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C:\Users\Lenka\Desktop\teacher-yelling-e1329746372529.jpg"/>
          <p:cNvPicPr/>
          <p:nvPr/>
        </p:nvPicPr>
        <p:blipFill>
          <a:blip r:embed="rId1"/>
          <a:stretch/>
        </p:blipFill>
        <p:spPr>
          <a:xfrm>
            <a:off x="1285920" y="10000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NEVERBÁLNÍ KOMUNIKACE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Lenka\Desktop\non-verbal-communication-examples.jpg"/>
          <p:cNvPicPr/>
          <p:nvPr/>
        </p:nvPicPr>
        <p:blipFill>
          <a:blip r:embed="rId1"/>
          <a:stretch/>
        </p:blipFill>
        <p:spPr>
          <a:xfrm>
            <a:off x="2071800" y="2806560"/>
            <a:ext cx="50004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Neverbál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Calibri"/>
              </a:rPr>
              <a:t>Shakespeare: „Posunek, toť řeč sama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ěkteré rysy neverbální komunikace jsou nezávislé na kultuře a způsobu života, jiné se naopak  objevují pouze v určitých skupinách nebo společnost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nohé výrazové prostředky si člověk neuvědomuje, vybavuje je bez záměru a nedovede je dobře kontrolov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DĚLENÍ = slova (7%) + tón hlasu (38%) + neverbál (55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ležitost sebereflex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Populární konsek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Rybí stisk ruky = neupřímnost,  nedostatek lidského tepla, odpor ke komunikaci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Pozdrav obouruč = srdečnost, nebo majetnické skl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Přitahování ruky = úzkostlivé oso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Stisk a poplácání ramena = předstírá srdečnost, ale ukazuje odstup a zasahuje do osobní zó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Populární konsek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Třít si oko…           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e to ukrutná le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Třít si bradu…      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  zvažuju situaci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Škrábat si hlavu… 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nejsem si jist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Škrábat se za uchem…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zacpal bych si uši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Uvolňovat si límec…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ak se vymanit z tlaku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Bubnování prsty…    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jsem hrozně netrpělivý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f7f7f"/>
                </a:solidFill>
                <a:latin typeface="Calibri"/>
              </a:rPr>
              <a:t>Ukazování prstem …        </a:t>
            </a:r>
            <a:r>
              <a:rPr b="1" lang="cs-CZ" sz="1600" spc="-1" strike="noStrike">
                <a:solidFill>
                  <a:srgbClr val="7f7f7f"/>
                </a:solidFill>
                <a:latin typeface="Calibri"/>
              </a:rPr>
              <a:t>kritičnost, uzavír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pozice u stolu"/>
          <p:cNvPicPr/>
          <p:nvPr/>
        </p:nvPicPr>
        <p:blipFill>
          <a:blip r:embed="rId1"/>
          <a:stretch/>
        </p:blipFill>
        <p:spPr>
          <a:xfrm>
            <a:off x="1000080" y="0"/>
            <a:ext cx="70722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ložky neverbální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roxem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rostorové chování, teritorium, intimní – osobní – společenská – sociální zó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Hap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komunikace prostřednictvím doteků, profesionální, konvenční, přátelské, intimní, nepřátelsk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sturolog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oloha / držení těla, ruce v kapsách, zkřížené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imika (pohyby obličejových svalů, pravost, emoce, zauje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Ge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spontánní pohyb části těla, kulturní odliš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Kinez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Všechny kruhy pohybů různých částí těla, rozsah, počet, soul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Oční kontak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růměr 3s, přátelskost, (ne)příjmenost, 50% při rozhovoru, vyhýbavý – těkavý – hodnotící – přátelský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Chronem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chování v čase, příchod na místo, doba telefonátů, odpovědí na e-mail, ovlivňuje komunika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canImage"/>
          <p:cNvPicPr/>
          <p:nvPr/>
        </p:nvPicPr>
        <p:blipFill>
          <a:blip r:embed="rId1"/>
          <a:stretch/>
        </p:blipFill>
        <p:spPr>
          <a:xfrm>
            <a:off x="-380880" y="0"/>
            <a:ext cx="7086600" cy="472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tvare2"/>
          <p:cNvPicPr/>
          <p:nvPr/>
        </p:nvPicPr>
        <p:blipFill>
          <a:blip r:embed="rId2"/>
          <a:srcRect l="3666" t="2414" r="0" b="0"/>
          <a:stretch/>
        </p:blipFill>
        <p:spPr>
          <a:xfrm>
            <a:off x="2057400" y="3095640"/>
            <a:ext cx="70866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ozdíl v interpretaci g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1488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fekt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xuální naráž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y n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ní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ahodné (jídl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esto 1"/>
          <p:cNvPicPr/>
          <p:nvPr/>
        </p:nvPicPr>
        <p:blipFill>
          <a:blip r:embed="rId1"/>
          <a:stretch/>
        </p:blipFill>
        <p:spPr>
          <a:xfrm>
            <a:off x="500040" y="164304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Význam sebereflex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bereflexe = přemýšlení o so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scartes „cogito ergo su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de a hodnotí vlastní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voboda a spoleh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ředpokladem zodpovědnosti, et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akem je nepříčetnost, nesvéprá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sta k profesnímu sebeobra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apitulace a didaktická analý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odenní bilancování × dlouhodobé sebepoj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yby: neúplné interpretace, emoční předpojetí, přehnané nároky na sebe sama a podlehnutí dílčím neúspěch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ázek 3" descr="C:\Users\Lenka\Desktop\magritte2.jpg"/>
          <p:cNvPicPr/>
          <p:nvPr/>
        </p:nvPicPr>
        <p:blipFill>
          <a:blip r:embed="rId1"/>
          <a:stretch/>
        </p:blipFill>
        <p:spPr>
          <a:xfrm>
            <a:off x="6367320" y="0"/>
            <a:ext cx="2776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4 typy 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04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s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řizpůsobivost požadavkům druh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bezbrannost, ustupování, vyhýbání se konflikt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závislost na druhých a jejich hodnoc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Agres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rosazování na úkor jin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obviňování okolí, nátlak, moraliz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skrytá potřeba zvýšení sebevědo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Manipu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sleduje cíl nepří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vyvolávání pocitů viny, lichocení, apely na morál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sobectví, potřeba zvýšit si sebevědomí, vnitřní prázdno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Asertiv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ní rys: přímé, otevřené, sebevědomé, klid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ůsoby: respektující sebe i druhého, kompromi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vod: úcta k sobě i druhým, čestnost a odva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Lenka\Desktop\PhD\Vyuka\pajdák\etel\223_d153b8e69216f9b3d7e605ea5afb8951.png"/>
          <p:cNvPicPr/>
          <p:nvPr/>
        </p:nvPicPr>
        <p:blipFill>
          <a:blip r:embed="rId1"/>
          <a:stretch/>
        </p:blipFill>
        <p:spPr>
          <a:xfrm>
            <a:off x="1785960" y="1857240"/>
            <a:ext cx="524808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Johariho ok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57120" y="1356840"/>
            <a:ext cx="842976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Joseph Luft, Harry Ingha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1955, US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vzájemnou vazbu mezi intrapersonálními a interpersonálními dě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Veřejn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způsoby chování a motivaci, která je známá nám i ostatn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Slep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lastnosti, o kt. já nevím, ale jsou viditelné z pohledu druh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 Skryt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á o něčem vím, ale před ostatními se to snažím z různých příčin skrývat (např. moje intimní záležito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4. Neznámá obla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isté skutečnosti nejsou známe mě ani ostatním li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580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Zkreslování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informací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26"/>
                </a:solidFill>
                <a:latin typeface="Calibri"/>
              </a:rPr>
              <a:t>Jak si ji představuj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lipsa 4"/>
          <p:cNvSpPr/>
          <p:nvPr/>
        </p:nvSpPr>
        <p:spPr>
          <a:xfrm>
            <a:off x="64296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Mluvč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auto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ipsa 6"/>
          <p:cNvSpPr/>
          <p:nvPr/>
        </p:nvSpPr>
        <p:spPr>
          <a:xfrm>
            <a:off x="621504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Příjem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čtená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Šipka doprava 9"/>
          <p:cNvSpPr/>
          <p:nvPr/>
        </p:nvSpPr>
        <p:spPr>
          <a:xfrm>
            <a:off x="3071880" y="3857760"/>
            <a:ext cx="3000240" cy="8571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26"/>
                </a:solidFill>
                <a:latin typeface="Calibri"/>
              </a:rPr>
              <a:t>Jak to fung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lipsa 4"/>
          <p:cNvSpPr/>
          <p:nvPr/>
        </p:nvSpPr>
        <p:spPr>
          <a:xfrm>
            <a:off x="64296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Mluvč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autor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ipsa 6"/>
          <p:cNvSpPr/>
          <p:nvPr/>
        </p:nvSpPr>
        <p:spPr>
          <a:xfrm>
            <a:off x="6215040" y="3071880"/>
            <a:ext cx="228600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Příjem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Calibri"/>
              </a:rPr>
              <a:t>(čtenář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Šipka doprava 9"/>
          <p:cNvSpPr/>
          <p:nvPr/>
        </p:nvSpPr>
        <p:spPr>
          <a:xfrm>
            <a:off x="3071880" y="3857760"/>
            <a:ext cx="17143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ovací čára 8"/>
          <p:cNvSpPr/>
          <p:nvPr/>
        </p:nvSpPr>
        <p:spPr>
          <a:xfrm flipH="1">
            <a:off x="4785840" y="642960"/>
            <a:ext cx="1800" cy="6000840"/>
          </a:xfrm>
          <a:prstGeom prst="line">
            <a:avLst/>
          </a:prstGeom>
          <a:ln w="136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ovací šipka 11"/>
          <p:cNvCxnSpPr/>
          <p:nvPr/>
        </p:nvCxnSpPr>
        <p:spPr>
          <a:xfrm flipV="1">
            <a:off x="4714560" y="1785600"/>
            <a:ext cx="3715560" cy="235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Přímá spojovací šipka 13"/>
          <p:cNvCxnSpPr/>
          <p:nvPr/>
        </p:nvCxnSpPr>
        <p:spPr>
          <a:xfrm>
            <a:off x="4643280" y="4285800"/>
            <a:ext cx="3858480" cy="200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Přímá spojovací šipka 15"/>
          <p:cNvCxnSpPr/>
          <p:nvPr/>
        </p:nvCxnSpPr>
        <p:spPr>
          <a:xfrm flipV="1">
            <a:off x="4714920" y="3571920"/>
            <a:ext cx="1572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Pravoúhlá spojovací čára 17"/>
          <p:cNvCxnSpPr/>
          <p:nvPr/>
        </p:nvCxnSpPr>
        <p:spPr>
          <a:xfrm>
            <a:off x="4714920" y="4285800"/>
            <a:ext cx="2358000" cy="135828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2" name="Přímá spojovací šipka 19"/>
          <p:cNvCxnSpPr/>
          <p:nvPr/>
        </p:nvCxnSpPr>
        <p:spPr>
          <a:xfrm flipV="1">
            <a:off x="4714920" y="856440"/>
            <a:ext cx="357840" cy="3358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Přímá spojovací šipka 21"/>
          <p:cNvCxnSpPr/>
          <p:nvPr/>
        </p:nvCxnSpPr>
        <p:spPr>
          <a:xfrm flipV="1">
            <a:off x="4714560" y="3999960"/>
            <a:ext cx="14295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Přímá spojovací šipka 23"/>
          <p:cNvCxnSpPr/>
          <p:nvPr/>
        </p:nvCxnSpPr>
        <p:spPr>
          <a:xfrm>
            <a:off x="4785840" y="4214520"/>
            <a:ext cx="13582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Přímá spojovací šipka 25"/>
          <p:cNvCxnSpPr/>
          <p:nvPr/>
        </p:nvCxnSpPr>
        <p:spPr>
          <a:xfrm>
            <a:off x="4786200" y="4286160"/>
            <a:ext cx="1858320" cy="221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6" name="Přímá spojovací šipka 27"/>
          <p:cNvCxnSpPr/>
          <p:nvPr/>
        </p:nvCxnSpPr>
        <p:spPr>
          <a:xfrm flipV="1">
            <a:off x="7571160" y="2428200"/>
            <a:ext cx="2520" cy="572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7" name="Přímá spojovací šipka 28"/>
          <p:cNvCxnSpPr/>
          <p:nvPr/>
        </p:nvCxnSpPr>
        <p:spPr>
          <a:xfrm flipH="1" flipV="1">
            <a:off x="5143320" y="1285560"/>
            <a:ext cx="2581920" cy="1867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8" name="Přímá spojovací šipka 30"/>
          <p:cNvCxnSpPr/>
          <p:nvPr/>
        </p:nvCxnSpPr>
        <p:spPr>
          <a:xfrm flipV="1">
            <a:off x="7786800" y="2214360"/>
            <a:ext cx="2160" cy="786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9" name="Přímá spojovací šipka 31"/>
          <p:cNvCxnSpPr/>
          <p:nvPr/>
        </p:nvCxnSpPr>
        <p:spPr>
          <a:xfrm flipV="1">
            <a:off x="7929720" y="2142720"/>
            <a:ext cx="21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Přímá spojovací šipka 32"/>
          <p:cNvCxnSpPr/>
          <p:nvPr/>
        </p:nvCxnSpPr>
        <p:spPr>
          <a:xfrm flipV="1">
            <a:off x="8071200" y="2071080"/>
            <a:ext cx="2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1" name="Přímá spojovací šipka 33"/>
          <p:cNvCxnSpPr/>
          <p:nvPr/>
        </p:nvCxnSpPr>
        <p:spPr>
          <a:xfrm flipV="1">
            <a:off x="8214120" y="1999440"/>
            <a:ext cx="2520" cy="13582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2" name="Přímá spojovací šipka 39"/>
          <p:cNvCxnSpPr/>
          <p:nvPr/>
        </p:nvCxnSpPr>
        <p:spPr>
          <a:xfrm flipH="1">
            <a:off x="6214680" y="3356640"/>
            <a:ext cx="2865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3" name="Přímá spojovací šipka 42"/>
          <p:cNvCxnSpPr/>
          <p:nvPr/>
        </p:nvCxnSpPr>
        <p:spPr>
          <a:xfrm>
            <a:off x="8143920" y="5071680"/>
            <a:ext cx="72000" cy="107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4" name="Přímá spojovací šipka 44"/>
          <p:cNvCxnSpPr/>
          <p:nvPr/>
        </p:nvCxnSpPr>
        <p:spPr>
          <a:xfrm>
            <a:off x="8286840" y="5000400"/>
            <a:ext cx="714960" cy="143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5" name="Přímá spojovací šipka 46"/>
          <p:cNvCxnSpPr/>
          <p:nvPr/>
        </p:nvCxnSpPr>
        <p:spPr>
          <a:xfrm>
            <a:off x="8501040" y="4142880"/>
            <a:ext cx="6433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6" name="Přímá spojovací šipka 48"/>
          <p:cNvCxnSpPr/>
          <p:nvPr/>
        </p:nvCxnSpPr>
        <p:spPr>
          <a:xfrm flipV="1">
            <a:off x="6714000" y="2499480"/>
            <a:ext cx="252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Co vstupuje do hry?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brainstor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99680" y="1428840"/>
            <a:ext cx="4357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lita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su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ereoty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svěd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zorová struk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t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ý sta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iologické dispoz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ůsob ře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lita smys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obsah 2"/>
          <p:cNvSpPr/>
          <p:nvPr/>
        </p:nvSpPr>
        <p:spPr>
          <a:xfrm>
            <a:off x="4143240" y="1285920"/>
            <a:ext cx="47865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uální rozpolo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aktivita mluvčí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 komun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ologické asp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dom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věryhodnost mluvčí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mnoho další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C:\Users\Lenka\Desktop\komunikace.gif"/>
          <p:cNvPicPr/>
          <p:nvPr/>
        </p:nvPicPr>
        <p:blipFill>
          <a:blip r:embed="rId1"/>
          <a:stretch/>
        </p:blipFill>
        <p:spPr>
          <a:xfrm>
            <a:off x="5214960" y="0"/>
            <a:ext cx="3929040" cy="1785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Informační šu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ŠUM je cokoliv, co interferuje s příjmem sdělení. V extrémním případě může zcela zabránit přenosu inform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FYZ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ušivý vliv pocházející ze zdrojů mimo mluvčího a posluchače, který narušuje komunikaci (projíždějící auta, sluneční brýle, nečitelný rukopis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FYZIOLOG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fyziologické bariéry (vady sluchu, vady řeči, ztráta paměti, únava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SYCHOLOG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mentální interference (předsudky, emotivita, uzavřenost, psychické problémy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SÉMANTICKÝ ŠUM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ozdílné významové systémy mluvčího a posluchače (dialekty, složitá terminologie, dvojjazyčnost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izma subjektivní percep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izma = hranol, obvykle skleněný, rozkládající dopadající světlo; podmínky určující způsob pohledu, hledisk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tejně jako se světlo láme o hranol a vznikají tak barvy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i dopad sdělovaného má tolik výkladů, kolik je posluchač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Lenka\Desktop\05_A-The-Prism.gif"/>
          <p:cNvPicPr/>
          <p:nvPr/>
        </p:nvPicPr>
        <p:blipFill>
          <a:blip r:embed="rId1"/>
          <a:stretch/>
        </p:blipFill>
        <p:spPr>
          <a:xfrm>
            <a:off x="1071720" y="3000240"/>
            <a:ext cx="7072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et lidí: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ůběh: 1 zůstane ve třídě, 4 půjdou za dve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nímu přečtu krátký úryvek informace z novin s tím, aby si z něj zapamatoval co nejvíce relevantních informací a informoval poté o něm prvního příchozíh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tupně vejdou všichni 4, co byli původně za dveřmi, informaci předává vždy ten, komu byla sděl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rvnímu, první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ruhému, druhý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řetímu, třetí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čtvrtému, čtvrtý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áté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átý poté zprávu z novin převykládá před tříd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Došlo k nějakému zkreslení? Proč? Kde nastal zl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456160" y="0"/>
            <a:ext cx="3687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et lidí: celá tří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ůběh: Přečtu vám krátkou zprávu o události. Pokuste se z ní zapamatovat co nejvíce FAKT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PRÁV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500" spc="-1" strike="noStrike">
                <a:solidFill>
                  <a:srgbClr val="ff0000"/>
                </a:solidFill>
                <a:latin typeface="Calibri"/>
              </a:rPr>
              <a:t>Vysokoškolský učitel právě dokončil přípravu závěrečných zkoušek a zhasl světla ve své kanceláři. V tom se objevila vysoká, rozložitá postava s tmavými brýlemi a požadovala vyzkoušení. Profesor otevřel zásuvku. Zásuvka byla úplně prázdná a individuum utíkalo po chodbě pryč. O události byl neprodleně informován děka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Techni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42884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yní přečtu 10 tvr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pište si čísla těch, která odpovídají skutečnosti DLE PŘEČTENÍ ZPRÁV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RZ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loděj byl vysoký, rozložitý a měl tmavé brý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rofesor zhasl svět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Nějaký vysoký člověk požadoval vyzkoušen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kušební otázky vzal někdo ze zásuvk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kušební otázky vzal ze zásuvky profe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té, co profesor zhasl světla v kanceláři, objevila se vysoká, rozložitá post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Ten, kdo otevřel zásuvku, byl profes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rofesor utíkal po chodbě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Zásuvka ve skutečnosti nebyla vůbec otevř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V této zprávě se hovoří o třech osobá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C:\Users\Lenka\Desktop\communicate.png"/>
          <p:cNvPicPr/>
          <p:nvPr/>
        </p:nvPicPr>
        <p:blipFill>
          <a:blip r:embed="rId1"/>
          <a:stretch/>
        </p:blipFill>
        <p:spPr>
          <a:xfrm>
            <a:off x="5931000" y="0"/>
            <a:ext cx="3213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ák ve třídě, kterou učíte, je na vás hrubý. Řekne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váku, koukej zalézt zpátky pod ká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 Pavle, to nebylo od tebe hezké, co myslíš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vle, já na tebe takhle nemluvím a nechci, aby tak někdo mluvil na mě. Už to nedělej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ěkdo, koho jsem přistihl, jak kouří během polední přestávky by si měl dávat pozor na jazyk, protože by se o tom kouření mohl dozvědět ředitel.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Fakta a dedukce (diskuz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ý je rozdíl mezi fakty a dedukcem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kterých případech většina třídy označila dedukci za fa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é z tvrzení bylo nejspor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čem mohou být dedukce ohrožující a v čem naopak přínosn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4" descr="C:\Users\Lenka\Desktop\images.jpg"/>
          <p:cNvPicPr/>
          <p:nvPr/>
        </p:nvPicPr>
        <p:blipFill>
          <a:blip r:embed="rId1"/>
          <a:stretch/>
        </p:blipFill>
        <p:spPr>
          <a:xfrm>
            <a:off x="6215040" y="4916520"/>
            <a:ext cx="29289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nka.Sramkova@upol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C:\Users\Lenka\Desktop\Nákupní-předsudky-1.-část-250x250.jpg"/>
          <p:cNvPicPr/>
          <p:nvPr/>
        </p:nvPicPr>
        <p:blipFill>
          <a:blip r:embed="rId2"/>
          <a:stretch/>
        </p:blipFill>
        <p:spPr>
          <a:xfrm>
            <a:off x="2832120" y="2695680"/>
            <a:ext cx="39481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Žák ve třídě, kterou učíte, je na vás hrubý. Řekne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váku, koukej zalézt zpátky pod kámen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A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o Pavle, to nebylo od tebe hezké, co myslíš?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P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vle, já na tebe takhle nemluvím a nechci, aby tak někdo mluvil na mě. Už to nedělej.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ěkdo, koho jsem přistihl, jak kouří během polední přestávky by si měl dávat pozor na jazyk, protože by se o tom kouření mohl dozvědět ředitel. </a:t>
            </a:r>
            <a:r>
              <a:rPr b="1" lang="cs-CZ" sz="3000" spc="-1" strike="noStrike">
                <a:solidFill>
                  <a:srgbClr val="ff0000"/>
                </a:solidFill>
                <a:latin typeface="Calibri"/>
              </a:rPr>
              <a:t>– M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0" spc="-1" strike="noStrike">
                <a:solidFill>
                  <a:srgbClr val="000000"/>
                </a:solidFill>
                <a:latin typeface="Calibri"/>
              </a:rPr>
              <a:t>ASERTIVITA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:\Users\Lenka\Desktop\asertivita_txt.jpg"/>
          <p:cNvPicPr/>
          <p:nvPr/>
        </p:nvPicPr>
        <p:blipFill>
          <a:blip r:embed="rId1"/>
          <a:stretch/>
        </p:blipFill>
        <p:spPr>
          <a:xfrm>
            <a:off x="2214720" y="2000160"/>
            <a:ext cx="46958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sertivi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50012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umění prosadit se a zároveň respektovat potřeby druh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máhá ke spolupráci s ostatní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mená to také, že uznáváme právo druhého na jeho ná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sertivita obsahuje základní postupy otevřené, věcné a zároveň spontánní, empatické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násilně projevené sebevědom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 mám svojí cenu – Ty máš svoji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sertivní komunikace: zdravá schopnost a dovednost autoprezentace během sociální komunikace, sebeprosazování při zachovávání slušnosti, taktu a zdvořilost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dy je vhodná asertivi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zvládání konflikt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jedn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vedení a motivování li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poskytování a přijímání zpětné vaz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spoluprá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vystupování na pora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2:37:41Z</dcterms:created>
  <dc:creator>Lenka Sramkova</dc:creator>
  <dc:description/>
  <dc:language>en-US</dc:language>
  <cp:lastModifiedBy>Uzivatel</cp:lastModifiedBy>
  <dcterms:modified xsi:type="dcterms:W3CDTF">2013-01-02T10:55:09Z</dcterms:modified>
  <cp:revision>160</cp:revision>
  <dc:subject/>
  <dc:title>Snímek 1</dc:title>
</cp:coreProperties>
</file>